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282-4EFC-4FB5-93E4-7609B8A9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419-9DE2-4E7B-A0D1-5E508DF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AD7-05F5-4027-A887-7A3650D0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84B-3595-49EB-8B6C-44EDCD3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52C-F61D-4793-A185-4FE2ABF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E53-F300-4959-ABC3-6583C6A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148-1B17-40B4-A09A-81559236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506-60D5-4960-AE59-904BFBF8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5E4-00B8-43C9-822B-E4B172FB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695-7CB3-4480-9FA1-61C6C6F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4EF-22F4-45E8-BD79-635CE53F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624-5A0B-4D11-BF6E-717C107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0E4CF-2E33-4E3E-BCA3-060BA8CF4D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EEB80-9671-4B97-9B50-E6AE3873C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9"/>
          <p:cNvSpPr/>
          <p:nvPr/>
        </p:nvSpPr>
        <p:spPr>
          <a:xfrm>
            <a:off x="968400" y="44355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9"/>
          <p:cNvSpPr/>
          <p:nvPr/>
        </p:nvSpPr>
        <p:spPr>
          <a:xfrm flipV="1">
            <a:off x="968400" y="4433400"/>
            <a:ext cx="71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9640" bIns="-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>
            <a:off x="4011480" y="1265400"/>
            <a:ext cx="1395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0"/>
          <p:cNvSpPr/>
          <p:nvPr/>
        </p:nvSpPr>
        <p:spPr>
          <a:xfrm>
            <a:off x="4863960" y="4425840"/>
            <a:ext cx="55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3"/>
          <p:cNvSpPr/>
          <p:nvPr/>
        </p:nvSpPr>
        <p:spPr>
          <a:xfrm flipV="1">
            <a:off x="696276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6"/>
          <p:cNvSpPr/>
          <p:nvPr/>
        </p:nvSpPr>
        <p:spPr>
          <a:xfrm>
            <a:off x="5929200" y="4430880"/>
            <a:ext cx="1562040" cy="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560" bIns="-88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43"/>
          <p:cNvSpPr/>
          <p:nvPr/>
        </p:nvSpPr>
        <p:spPr>
          <a:xfrm flipV="1">
            <a:off x="696276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4"/>
          <p:cNvSpPr/>
          <p:nvPr/>
        </p:nvSpPr>
        <p:spPr>
          <a:xfrm>
            <a:off x="6472080" y="461952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56"/>
          <p:cNvSpPr/>
          <p:nvPr/>
        </p:nvSpPr>
        <p:spPr>
          <a:xfrm>
            <a:off x="5929200" y="4430880"/>
            <a:ext cx="1562040" cy="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560" bIns="-88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60"/>
          <p:cNvSpPr/>
          <p:nvPr/>
        </p:nvSpPr>
        <p:spPr>
          <a:xfrm>
            <a:off x="6421320" y="4581360"/>
            <a:ext cx="103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follows specific steps as in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metho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1996920" y="2143080"/>
            <a:ext cx="201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1:02Z</dcterms:created>
  <dc:creator>BRADLEY UNIVERSITY</dc:creator>
  <dc:description/>
  <dc:language>en-US</dc:language>
  <cp:lastModifiedBy>BRADLEY UNIVERSITY</cp:lastModifiedBy>
  <dcterms:modified xsi:type="dcterms:W3CDTF">2011-09-29T17:38:03Z</dcterms:modified>
  <cp:revision>17</cp:revision>
  <dc:subject/>
  <dc:title>Slide 1</dc:title>
</cp:coreProperties>
</file>